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E368-7F00-42EC-9CB0-BF6F2775A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7437-5C54-4C1A-8259-EFF538B8F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8168-A71B-43C2-93E3-D81C548B7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B43A-8D4F-4069-8798-B56873804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13C7-C23F-4A51-9042-88D1314EA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22E8-22F0-449E-8703-8F20140F7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7EF9-8279-48F8-BE7B-959F0AAD2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31AB-F1FE-4717-9198-B1F5E70B0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760D-66B2-4CD9-BE78-2B038327B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2067-1339-4EFA-9E83-1A4BEA48C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D499-FFAE-4067-838B-7F0A7BB3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E538-D36E-4B93-8C67-53EAAA7D6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3E3F4-B739-4211-80C6-1B8A32BDC5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1857240"/>
            <a:ext cx="7315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sk-SK" sz="6600" spc="-1" strike="noStrike">
                <a:solidFill>
                  <a:srgbClr val="000000"/>
                </a:solidFill>
                <a:latin typeface="Arial"/>
              </a:rPr>
              <a:t>áklady teórie pravdepodobnosti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z</a:t>
            </a: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ávislosť udalost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intuitívne chápanie nezávislosti nemusí mať každý človek korektn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formálna nezávislosť je založená na tom, že znalosť jednej udalosti nevrhá žiadne svetlo na objasnenie či nastáva druhá udalosť alebo n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rázdna udalosť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je nezávislá so všetký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Ω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  <a:ea typeface="Arial"/>
              </a:rPr>
              <a:t> je tiež nezávislá so všetký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Náhodná premenn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apríklad súčet hodených kociek alebo číslo padnuté na prvej koc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alebo vzdialenosť od bodu reprezentujúceho priemernú udalos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o všeobecnosti priraďuje každej elementárnej udalosti reálne čís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umožňuje skúmať skupinu udalostí podobného charakte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udalosť je náhodná premenná s dvojhodnotovým obraz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Rozdelen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Každému reálnemu číslo priraďuj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vdepobnos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ť elementárnych udalostí ktorým je priradené náhodnou premennou (ich množstvo vydelené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Označujeme f</a:t>
            </a:r>
            <a:r>
              <a:rPr b="0" lang="sk-SK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ak X je náhodná premen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Kumulatívne rozdelen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Každému reálnemu číslu priraďuj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avd pravdepodobn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ť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elementárnych udalostí ktorým je priradené náhodnou premennou toto číslo alebo menš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Označujeme cdf F</a:t>
            </a:r>
            <a:r>
              <a:rPr b="0" lang="sk-SK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cdf F</a:t>
            </a:r>
            <a:r>
              <a:rPr b="0" lang="sk-SK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integruje f</a:t>
            </a:r>
            <a:r>
              <a:rPr b="0" lang="sk-SK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cdf F</a:t>
            </a:r>
            <a:r>
              <a:rPr b="0" lang="sk-SK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je výpočtovo efektívnejš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Náhodná premenná a rozdelen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6840" y="202716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e súčet hodu dvoch koci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(a,b)) = a +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 rozdelen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kumulat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ív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ozdele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2819520" y="3076560"/>
                <a:ext cx="6019560" cy="11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f>
                                <m:fPr>
                                  <m:type m:val="lin"/>
                                </m:fPr>
                                <m:num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6</m:t>
                                      </m:r>
                                      <m:r>
                                        <m:t xml:space="preserve">−</m:t>
                                      </m:r>
                                      <m:d>
                                        <m:dPr>
                                          <m:begChr m:val="|"/>
                                          <m:endChr m:val="|"/>
                                        </m:dPr>
                                        <m:e>
                                          <m:r>
                                            <m:t xml:space="preserve">7</m:t>
                                          </m:r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n</m:t>
                                          </m:r>
                                        </m:e>
                                      </m:d>
                                    </m:e>
                                  </m:d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6</m:t>
                                  </m:r>
                                </m:den>
                              </m:f>
                            </m:e>
                            <m:e/>
                            <m:e>
                              <m:r>
                                <m:t xml:space="preserve">n</m:t>
                              </m:r>
                              <m:r>
                                <m:t xml:space="preserve">=</m:t>
                              </m:r>
                              <m:r>
                                <m:t xml:space="preserve">2,3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nak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2286000" y="4495680"/>
                <a:ext cx="6705720" cy="169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m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df</m:t>
                                </m:r>
                              </m:e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  <m:e/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m>
                                <m:mr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f>
                                          <m:num>
                                            <m:r>
                                              <m:t xml:space="preserve">n</m:t>
                                            </m:r>
                                            <m:d>
                                              <m:dPr>
                                                <m:begChr m:val="("/>
                                                <m:endChr m:val=")"/>
                                              </m:dPr>
                                              <m:e>
                                                <m:r>
                                                  <m:t xml:space="preserve">n</m:t>
                                                </m:r>
                                                <m:r>
                                                  <m:t xml:space="preserve">−</m:t>
                                                </m:r>
                                                <m:r>
                                                  <m:t xml:space="preserve">1</m:t>
                                                </m:r>
                                              </m:e>
                                            </m:d>
                                          </m:num>
                                          <m:den>
                                            <m:r>
                                              <m:t xml:space="preserve">2</m:t>
                                            </m:r>
                                          </m:den>
                                        </m:f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36</m:t>
                                        </m:r>
                                      </m:den>
                                    </m:f>
                                  </m:e>
                                  <m:e/>
                                  <m:e>
                                    <m:r>
                                      <m:t xml:space="preserve">n</m:t>
                                    </m:r>
                                    <m:r>
                                      <m:t xml:space="preserve">≤</m:t>
                                    </m:r>
                                    <m:r>
                                      <m:t xml:space="preserve">7</m:t>
                                    </m:r>
                                  </m:e>
                                </m:mr>
                                <m:mr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15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f>
                                              <m:num>
                                                <m:d>
                                                  <m:dPr>
                                                    <m:begChr m:val="("/>
                                                    <m:endChr m:val=")"/>
                                                  </m:dPr>
                                                  <m:e>
                                                    <m:r>
                                                      <m:rPr>
                                                        <m:lit/>
                                                        <m:nor/>
                                                      </m:rPr>
                                                      <m:t xml:space="preserve">19</m:t>
                                                    </m:r>
                                                    <m:r>
                                                      <m:t xml:space="preserve">−</m:t>
                                                    </m:r>
                                                    <m:r>
                                                      <m:t xml:space="preserve">n</m:t>
                                                    </m:r>
                                                  </m:e>
                                                </m:d>
                                                <m:r>
                                                  <m:rPr>
                                                    <m:lit/>
                                                    <m:nor/>
                                                  </m:rPr>
                                                  <m:t xml:space="preserve">.</m:t>
                                                </m:r>
                                                <m:d>
                                                  <m:dPr>
                                                    <m:begChr m:val="("/>
                                                    <m:endChr m:val=")"/>
                                                  </m:dPr>
                                                  <m:e>
                                                    <m:r>
                                                      <m:t xml:space="preserve">n</m:t>
                                                    </m:r>
                                                    <m:r>
                                                      <m:t xml:space="preserve">−</m:t>
                                                    </m:r>
                                                    <m:r>
                                                      <m:t xml:space="preserve">6</m:t>
                                                    </m:r>
                                                  </m:e>
                                                </m:d>
                                              </m:num>
                                              <m:den>
                                                <m:r>
                                                  <m:t xml:space="preserve">2</m:t>
                                                </m:r>
                                              </m:den>
                                            </m:f>
                                          </m:e>
                                        </m:d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36</m:t>
                                        </m:r>
                                      </m:den>
                                    </m:f>
                                  </m:e>
                                  <m:e/>
                                  <m:e>
                                    <m:r>
                                      <m:t xml:space="preserve">n</m:t>
                                    </m:r>
                                    <m:r>
                                      <m:t xml:space="preserve">≥</m:t>
                                    </m:r>
                                    <m:r>
                                      <m:t xml:space="preserve">7</m:t>
                                    </m:r>
                                  </m:e>
                                </m:mr>
                              </m:m>
                            </m:e>
                          </m:d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583" name=""/>
          <p:cNvSpPr/>
          <p:nvPr/>
        </p:nvSpPr>
        <p:spPr>
          <a:xfrm>
            <a:off x="838080" y="3855960"/>
            <a:ext cx="1067040" cy="22860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838080" y="5608800"/>
            <a:ext cx="10670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5" name=""/>
          <p:cNvGraphicFramePr/>
          <p:nvPr/>
        </p:nvGraphicFramePr>
        <p:xfrm>
          <a:off x="4572000" y="785880"/>
          <a:ext cx="4343400" cy="206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785880"/>
                    <a:ext cx="4343400" cy="20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Oč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ávani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Priem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914040" y="3505320"/>
            <a:ext cx="79246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 s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  <a:ea typeface="Arial"/>
              </a:rPr>
              <a:t>účet hodu dvoch kociek je priem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7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9" name=""/>
              <p:cNvSpPr txBox="1"/>
              <p:nvPr/>
            </p:nvSpPr>
            <p:spPr>
              <a:xfrm>
                <a:off x="609480" y="1689120"/>
                <a:ext cx="7772400" cy="13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E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</m:e>
                          </m:d>
                        </m:e>
                        <m:e/>
                        <m:e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</m:e>
                        <m:e>
                          <m:m>
                            <m:mr>
                              <m:e/>
                              <m:e>
                                <m:r>
                                  <m:t xml:space="preserve">μ</m:t>
                                </m:r>
                              </m:e>
                              <m:e/>
                            </m:mr>
                          </m:m>
                        </m:e>
                        <m:e>
                          <m:m>
                            <m:m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d>
                                  </m:den>
                                </m:f>
                              </m:e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ω</m:t>
                                    </m:r>
                                    <m:r>
                                      <m:t xml:space="preserve">∈</m:t>
                                    </m:r>
                                    <m:r>
                                      <m:t xml:space="preserve">Ω</m:t>
                                    </m:r>
                                  </m:sub>
                                  <m:sup/>
                                  <m:e>
                                    <m:r>
                                      <m:t xml:space="preserve">X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d>
                                  </m:e>
                                </m:nary>
                              </m:e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0" name=""/>
              <p:cNvSpPr txBox="1"/>
              <p:nvPr/>
            </p:nvSpPr>
            <p:spPr>
              <a:xfrm>
                <a:off x="1066680" y="4419720"/>
                <a:ext cx="365760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E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E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X</m:t>
                                  </m:r>
                                </m:e>
                              </m:d>
                            </m:e>
                          </m:d>
                        </m:e>
                        <m:e/>
                        <m:e>
                          <m:r>
                            <m:t xml:space="preserve">0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1" name=""/>
              <p:cNvSpPr txBox="1"/>
              <p:nvPr/>
            </p:nvSpPr>
            <p:spPr>
              <a:xfrm>
                <a:off x="1079640" y="5146560"/>
                <a:ext cx="394956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E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</m:e>
                          </m:d>
                        </m:e>
                        <m:e/>
                        <m:e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a</m:t>
                              </m:r>
                              <m:r>
                                <m:t xml:space="preserve">∈</m:t>
                              </m:r>
                              <m:r>
                                <m:t xml:space="preserve">ℜ</m:t>
                              </m:r>
                            </m:sub>
                            <m:sup/>
                            <m:e>
                              <m:r>
                                <m:t xml:space="preserve">a</m:t>
                              </m:r>
                              <m:r>
                                <m:t xml:space="preserve">⋅</m:t>
                              </m:r>
                            </m:e>
                          </m:nary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a</m:t>
                              </m:r>
                            </m:e>
                          </m:d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5430960" y="4419720"/>
                <a:ext cx="300492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E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μ</m:t>
                              </m:r>
                            </m:e>
                          </m:d>
                        </m:e>
                        <m:e/>
                        <m:e>
                          <m:r>
                            <m:t xml:space="preserve">0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Odchýľka a rozpty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trebujeme vyjadri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ako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ľko sa ostatné hodnoty líšia od prieme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rávne riešeni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ribližné diferencovateľné riešenie = odchýľ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Ľahšie sa vypočíta rozpty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5" name=""/>
              <p:cNvSpPr txBox="1"/>
              <p:nvPr/>
            </p:nvSpPr>
            <p:spPr>
              <a:xfrm>
                <a:off x="3809880" y="2462040"/>
                <a:ext cx="5181840" cy="9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e>
                        </m:d>
                      </m:e>
                    </m:d>
                    <m:m>
                      <m:mr>
                        <m:e>
                          <m:m>
                            <m:mr>
                              <m:e/>
                              <m:e/>
                            </m:mr>
                          </m:m>
                        </m:e>
                        <m:e>
                          <m:r>
                            <m:t xml:space="preserve">E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sSup>
                                    <m:e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X</m:t>
                                          </m:r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μ</m:t>
                                          </m:r>
                                        </m:e>
                                      </m:d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</m:rad>
                            </m:e>
                          </m:d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"/>
              <p:cNvSpPr txBox="1"/>
              <p:nvPr/>
            </p:nvSpPr>
            <p:spPr>
              <a:xfrm>
                <a:off x="2666880" y="4159080"/>
                <a:ext cx="365760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σ</m:t>
                          </m:r>
                        </m:e>
                        <m:e/>
                        <m:e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E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p>
                                    <m:e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X</m:t>
                                          </m:r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μ</m:t>
                                          </m:r>
                                        </m:e>
                                      </m:d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</m:d>
                            </m:e>
                          </m:rad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914400" y="5837400"/>
                <a:ext cx="7655040" cy="71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m>
                            <m:mr>
                              <m:e>
                                <m:m>
                                  <m:mr>
                                    <m:e>
                                      <m:sSup>
                                        <m:e>
                                          <m:r>
                                            <m:t xml:space="preserve">σ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e>
                                    <m:e/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var</m:t>
                                      </m:r>
                                      <m:r>
                                        <m:t xml:space="preserve">(</m:t>
                                      </m:r>
                                      <m:r>
                                        <m:t xml:space="preserve">X</m:t>
                                      </m:r>
                                      <m:r>
                                        <m:t xml:space="preserve">)</m:t>
                                      </m:r>
                                    </m:e>
                                  </m:mr>
                                </m:m>
                              </m:e>
                              <m:e/>
                              <m:e>
                                <m:r>
                                  <m:t xml:space="preserve">V</m:t>
                                </m:r>
                              </m:e>
                            </m:mr>
                          </m:m>
                        </m:e>
                        <m:e/>
                        <m:e>
                          <m:r>
                            <m:t xml:space="preserve">E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X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μ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d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Odchýľka a rozpty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9" name=""/>
          <p:cNvGraphicFramePr/>
          <p:nvPr/>
        </p:nvGraphicFramePr>
        <p:xfrm>
          <a:off x="0" y="1828800"/>
          <a:ext cx="8991720" cy="4286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28800"/>
                    <a:ext cx="8991720" cy="42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Variančno-kovariančná ma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" descr=""/>
          <p:cNvPicPr/>
          <p:nvPr/>
        </p:nvPicPr>
        <p:blipFill>
          <a:blip r:embed="rId1"/>
          <a:stretch/>
        </p:blipFill>
        <p:spPr>
          <a:xfrm>
            <a:off x="152280" y="4181400"/>
            <a:ext cx="8991720" cy="2143080"/>
          </a:xfrm>
          <a:prstGeom prst="rect">
            <a:avLst/>
          </a:prstGeom>
          <a:ln w="0">
            <a:noFill/>
          </a:ln>
        </p:spPr>
      </p:pic>
      <p:sp>
        <p:nvSpPr>
          <p:cNvPr id="603" name=""/>
          <p:cNvSpPr/>
          <p:nvPr/>
        </p:nvSpPr>
        <p:spPr>
          <a:xfrm>
            <a:off x="380880" y="16002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zovšeobecnenie rozptylu do viacerých dimenzi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" descr=""/>
          <p:cNvPicPr/>
          <p:nvPr/>
        </p:nvPicPr>
        <p:blipFill>
          <a:blip r:embed="rId2"/>
          <a:stretch/>
        </p:blipFill>
        <p:spPr>
          <a:xfrm>
            <a:off x="838080" y="2286000"/>
            <a:ext cx="1067040" cy="100800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3"/>
          <a:stretch/>
        </p:blipFill>
        <p:spPr>
          <a:xfrm>
            <a:off x="4267080" y="3352680"/>
            <a:ext cx="4114800" cy="430200"/>
          </a:xfrm>
          <a:prstGeom prst="rect">
            <a:avLst/>
          </a:prstGeom>
          <a:ln w="0">
            <a:noFill/>
          </a:ln>
        </p:spPr>
      </p:pic>
      <p:pic>
        <p:nvPicPr>
          <p:cNvPr id="606" name="" descr=""/>
          <p:cNvPicPr/>
          <p:nvPr/>
        </p:nvPicPr>
        <p:blipFill>
          <a:blip r:embed="rId4"/>
          <a:stretch/>
        </p:blipFill>
        <p:spPr>
          <a:xfrm>
            <a:off x="2362320" y="2690640"/>
            <a:ext cx="655308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Variančno-kovariančná ma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8" name=""/>
          <p:cNvGraphicFramePr/>
          <p:nvPr/>
        </p:nvGraphicFramePr>
        <p:xfrm>
          <a:off x="0" y="1168560"/>
          <a:ext cx="4495680" cy="2747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68560"/>
                    <a:ext cx="4495680" cy="27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0" name=""/>
          <p:cNvGraphicFramePr/>
          <p:nvPr/>
        </p:nvGraphicFramePr>
        <p:xfrm>
          <a:off x="4419720" y="1787400"/>
          <a:ext cx="4724280" cy="37274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1787400"/>
                    <a:ext cx="4724280" cy="37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2" name=""/>
          <p:cNvGraphicFramePr/>
          <p:nvPr/>
        </p:nvGraphicFramePr>
        <p:xfrm>
          <a:off x="19080" y="4019400"/>
          <a:ext cx="4476600" cy="27212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80" y="4019400"/>
                    <a:ext cx="4476600" cy="27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Elementárne udal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riestor elementárnych udalostí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Ω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  <a:ea typeface="Arial"/>
              </a:rPr>
              <a:t>, napr možné hody dvoch hracích kociek alebo body štvorca 1 x 1 (tzv. náhodný priest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  <a:ea typeface="Arial"/>
              </a:rPr>
              <a:t>Každá z elementárnych udalostí sa berie ako rovnako pravdepodobn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2720" y="4495680"/>
            <a:ext cx="2057400" cy="1905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5562720" y="4266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620120" y="6400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181480" y="434340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467480" y="644508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62720" y="5181480"/>
            <a:ext cx="1600200" cy="1219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58000" y="48006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x,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90720" y="43434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71600" y="4343400"/>
            <a:ext cx="38088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44956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487692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4876920"/>
            <a:ext cx="38088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49528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19320" y="51055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90720" y="54100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5410080"/>
            <a:ext cx="380880" cy="381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54864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43000" y="55627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90720" y="59436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371600" y="5943600"/>
            <a:ext cx="38088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60199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19320" y="61722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61722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19320" y="60199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60958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05120" y="43434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4343400"/>
            <a:ext cx="38088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81080" y="44197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057400" y="44956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81080" y="45720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133720" y="44197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38280" y="44956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33720" y="45720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5120" y="487692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6000" y="4876920"/>
            <a:ext cx="38088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81080" y="49528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50292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51055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49528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50292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51055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905120" y="54100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0" y="5410080"/>
            <a:ext cx="380880" cy="381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362320" y="54864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14600" y="56386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05120" y="59436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0" y="5943600"/>
            <a:ext cx="38088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81080" y="60199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33720" y="61722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60199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14600" y="61722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81280" y="4343400"/>
            <a:ext cx="3812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4343400"/>
            <a:ext cx="38088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733920" y="44956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657600" y="45720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44197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38480" y="44197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038480" y="44956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038480" y="45720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191120" y="44197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91120" y="44956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191120" y="45720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581280" y="4876920"/>
            <a:ext cx="3812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62520" y="4876920"/>
            <a:ext cx="38088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9528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57600" y="51055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49528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09880" y="51055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038480" y="49528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38480" y="50292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038480" y="51055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191120" y="49528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50292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191120" y="51055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81280" y="5410080"/>
            <a:ext cx="38124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62520" y="5410080"/>
            <a:ext cx="380880" cy="381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657600" y="54864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657600" y="56386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09880" y="54864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733920" y="55627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09880" y="56386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038480" y="54864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038480" y="55627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56386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191120" y="54864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191120" y="55627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191120" y="56386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1280" y="5943600"/>
            <a:ext cx="3812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62520" y="5943600"/>
            <a:ext cx="38088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657600" y="60199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657600" y="60958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657600" y="61722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09880" y="60199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9880" y="60958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09880" y="61722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038480" y="60199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038480" y="60958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038480" y="61722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91120" y="60199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191120" y="60958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91120" y="61722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971800" y="51498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23880" y="44956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523880" y="50292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523880" y="55627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438280" y="50292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219320" y="56386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057400" y="55627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Kovariančná ma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" descr=""/>
          <p:cNvPicPr/>
          <p:nvPr/>
        </p:nvPicPr>
        <p:blipFill>
          <a:blip r:embed="rId1"/>
          <a:stretch/>
        </p:blipFill>
        <p:spPr>
          <a:xfrm>
            <a:off x="1447920" y="1828800"/>
            <a:ext cx="6933960" cy="523800"/>
          </a:xfrm>
          <a:prstGeom prst="rect">
            <a:avLst/>
          </a:prstGeom>
          <a:ln w="0">
            <a:noFill/>
          </a:ln>
        </p:spPr>
      </p:pic>
      <p:sp>
        <p:nvSpPr>
          <p:cNvPr id="616" name=""/>
          <p:cNvSpPr/>
          <p:nvPr/>
        </p:nvSpPr>
        <p:spPr>
          <a:xfrm>
            <a:off x="1066680" y="548640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DO:  priklad na kovarianciu, PCA, Gaussovka, sigmo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5562720" y="4495680"/>
            <a:ext cx="2057400" cy="1905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562720" y="4495680"/>
            <a:ext cx="2057400" cy="1905120"/>
          </a:xfrm>
          <a:prstGeom prst="rtTriangle">
            <a:avLst/>
          </a:prstGeom>
          <a:solidFill>
            <a:srgbClr val="cc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dalos</a:t>
            </a: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Udalosť je podmnožina náhodného priestoru, t.j. množina elementárnych udalostí   E </a:t>
            </a:r>
            <a:r>
              <a:rPr b="0" lang="sk-SK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Ω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Chápeme to tak, že nastáva práve jedna elementárna udalosť, ktorá je prvkom danej udal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90720" y="57913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adne súče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90720" y="47242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371600" y="4724280"/>
            <a:ext cx="380880" cy="381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66680" y="48006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48769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523880" y="48769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19320" y="49528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51814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371600" y="5181480"/>
            <a:ext cx="380880" cy="381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066680" y="52578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219320" y="54100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447920" y="52578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4100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828800" y="49528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09680" y="4952880"/>
            <a:ext cx="381240" cy="381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981080" y="51055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362320" y="51055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0" y="50292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438280" y="51814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562720" y="4266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620120" y="6400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1480" y="434340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467480" y="644508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791320" y="54864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x+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562720" y="4495680"/>
            <a:ext cx="2057400" cy="1905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vdepodobnos</a:t>
            </a: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aždej udalosti priradíme mieru s akou sa vyskytu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Ω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1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(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) = P(E) + P(F)  ak 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562720" y="4495680"/>
            <a:ext cx="2057400" cy="1905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562720" y="4495680"/>
            <a:ext cx="2057400" cy="1905120"/>
          </a:xfrm>
          <a:prstGeom prst="rtTriangle">
            <a:avLst/>
          </a:prstGeom>
          <a:solidFill>
            <a:srgbClr val="cc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adne súčet 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3 / 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90720" y="47242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371600" y="4724280"/>
            <a:ext cx="380880" cy="381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066680" y="48006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43000" y="48769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523880" y="48769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219320" y="49528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90720" y="51814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371600" y="5181480"/>
            <a:ext cx="380880" cy="381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066680" y="52578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19320" y="54100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447920" y="52578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600200" y="54100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828800" y="49528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209680" y="4952880"/>
            <a:ext cx="381240" cy="381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981080" y="51055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362320" y="51055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38280" y="51814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5562720" y="4266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620120" y="6400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181480" y="434340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467480" y="644508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562720" y="591192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x+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1) = 1/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562720" y="4495680"/>
            <a:ext cx="2057400" cy="1905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36720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Tu bude P počet možností hod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791320" y="373392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Tu bude P pomer plochy a celkovej plo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Vety o pravdepodobnos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(E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) = P(E) + P(F) – P(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(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= P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-E) = 1 – P(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dmienen</a:t>
            </a: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á pravdepodobnos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B) … pravdepodnos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ť A za predpokladu že nastáva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(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P(A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/ P(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562720" y="4419720"/>
            <a:ext cx="1981080" cy="19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579132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B) = 2 / 36 : 3 / 36 = 2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90720" y="47242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371600" y="4724280"/>
            <a:ext cx="380880" cy="381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066680" y="48006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143000" y="48769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523880" y="48769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219320" y="49528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90720" y="51814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371600" y="5181480"/>
            <a:ext cx="380880" cy="381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066680" y="52578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219320" y="54100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52578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54100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28800" y="49528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209680" y="4952880"/>
            <a:ext cx="381240" cy="381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981080" y="51055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362320" y="51055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86000" y="50292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438280" y="51814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5562720" y="4190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543800" y="6400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181480" y="426708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391520" y="6445080"/>
            <a:ext cx="30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57200" y="3672000"/>
            <a:ext cx="4343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= na najakej kocke padne jednot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= padne 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úče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791320" y="32148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A =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{ 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x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&lt; 1/2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562720" y="4419720"/>
            <a:ext cx="990360" cy="19810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rot="16200000">
            <a:off x="6057720" y="4914720"/>
            <a:ext cx="990720" cy="1981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562720" y="5410080"/>
            <a:ext cx="990360" cy="990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562720" y="4419720"/>
            <a:ext cx="1981080" cy="19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791320" y="351936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sk-SK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{ y</a:t>
            </a:r>
            <a:r>
              <a:rPr b="0" lang="sk-SK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 1/2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791320" y="388620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¼ : ½ =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/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z</a:t>
            </a: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ávislosť udalost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A je nezávislá na B ak 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|B) = P(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a B s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ú nezávislé ak P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А)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(B) = P(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3520" y="5091120"/>
            <a:ext cx="19047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) = 1 / 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B) = 3 / 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 = 1/ 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B) =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/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33520" y="402444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14400" y="4024440"/>
            <a:ext cx="38088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09480" y="41004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" y="417672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066680" y="417672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62120" y="425304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33520" y="448164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914400" y="4481640"/>
            <a:ext cx="38088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09480" y="45576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62120" y="471024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990720" y="45576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471024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425304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52480" y="4253040"/>
            <a:ext cx="38124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523880" y="440532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905120" y="440532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828800" y="43290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981080" y="448164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57200" y="2971800"/>
            <a:ext cx="2590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= padn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ú dv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voj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= padne 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úče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429000" y="5091120"/>
            <a:ext cx="19051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) = 1 / 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B) = 3 / 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B)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429000" y="402444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809880" y="4024440"/>
            <a:ext cx="38124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505320" y="41004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581280" y="417672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962520" y="417672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657600" y="425304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429000" y="448164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809880" y="4481640"/>
            <a:ext cx="38124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505320" y="45576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657600" y="471024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886200" y="45576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038480" y="471024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267080" y="4253040"/>
            <a:ext cx="3812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648320" y="4253040"/>
            <a:ext cx="38088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419720" y="440532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800600" y="440532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724280" y="43290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876920" y="448164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352680" y="2971800"/>
            <a:ext cx="2590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= padn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ú dve šes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= padne 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úče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248520" y="5091120"/>
            <a:ext cx="19047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) = 1 /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B) =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/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 =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1 / 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B) =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1 /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172200" y="2971800"/>
            <a:ext cx="2590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=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na prvej padn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=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na druhej padn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867280" y="289548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324480" y="4038480"/>
            <a:ext cx="38124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05720" y="4038480"/>
            <a:ext cx="380880" cy="381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477120" y="41911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324480" y="4495680"/>
            <a:ext cx="38124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705720" y="4495680"/>
            <a:ext cx="380880" cy="381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400800" y="45720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553080" y="47242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162920" y="40384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543800" y="4038480"/>
            <a:ext cx="380880" cy="381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238880" y="41148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315200" y="41911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162920" y="44956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543800" y="4495680"/>
            <a:ext cx="380880" cy="381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238880" y="45720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391520" y="47242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238880" y="47242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391520" y="45720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696080" y="46483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8001000" y="40384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1880" y="4038480"/>
            <a:ext cx="381240" cy="381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8077320" y="41148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153280" y="41911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8077320" y="42670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8229600" y="41148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534520" y="41911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8229600" y="42670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001000" y="44956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381880" y="4495680"/>
            <a:ext cx="381240" cy="381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8077320" y="45720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8077320" y="46483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077320" y="47242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8229600" y="45720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8229600" y="46483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8229600" y="47242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858000" y="41911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858000" y="46483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696080" y="41911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8534520" y="46483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391520" y="42670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rot="16200000">
            <a:off x="-463320" y="39686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závisl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rot="5400000">
            <a:off x="8311680" y="43495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nezávisl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z</a:t>
            </a: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ávislosť udalost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57200" y="1447920"/>
            <a:ext cx="83818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A je nezávislá na B ak 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|B) = P(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a B s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ú nezávislé ak P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А)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(B) = P(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33520" y="54100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914400" y="5410080"/>
            <a:ext cx="380880" cy="381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09480" y="54864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85800" y="55627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066680" y="55627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62120" y="56386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33520" y="58672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5867280"/>
            <a:ext cx="380880" cy="381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09480" y="59436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62120" y="60958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990720" y="59436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60958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371600" y="56386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752480" y="5638680"/>
            <a:ext cx="381240" cy="381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523880" y="57913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905120" y="57913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828800" y="57150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981080" y="58672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57200" y="29718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57200" y="50292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33520" y="34290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914400" y="3429000"/>
            <a:ext cx="38088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85800" y="35812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066680" y="35812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33520" y="38862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914400" y="3886200"/>
            <a:ext cx="38088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990720" y="39625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85800" y="40384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143000" y="41148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33520" y="43434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914400" y="4343400"/>
            <a:ext cx="38088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990720" y="44197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85800" y="44956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066680" y="44956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143000" y="45720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371600" y="34290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752480" y="3429000"/>
            <a:ext cx="38124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523880" y="35812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828800" y="35053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371600" y="38862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752480" y="3886200"/>
            <a:ext cx="38124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828800" y="39625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905120" y="40384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523880" y="40384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371600" y="43434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752480" y="4343400"/>
            <a:ext cx="38124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828800" y="44956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828800" y="44197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828800" y="45720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523880" y="44956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209680" y="3429000"/>
            <a:ext cx="3812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590920" y="3429000"/>
            <a:ext cx="38088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286000" y="35053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743200" y="35812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438280" y="36576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209680" y="3886200"/>
            <a:ext cx="3812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0920" y="3886200"/>
            <a:ext cx="38088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286000" y="39625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666880" y="39625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743200" y="40384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438280" y="41148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209680" y="4343400"/>
            <a:ext cx="3812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590920" y="4343400"/>
            <a:ext cx="38088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286000" y="44197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666880" y="44197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819520" y="44197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438280" y="45720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981080" y="41148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981080" y="44197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981080" y="45720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819520" y="41148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048120" y="34290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429000" y="3429000"/>
            <a:ext cx="38088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124080" y="35053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505320" y="35053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581280" y="35812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276720" y="36576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048120" y="38862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429000" y="3886200"/>
            <a:ext cx="38088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124080" y="39625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505320" y="39625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505320" y="41148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276720" y="41148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048120" y="43434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429000" y="4343400"/>
            <a:ext cx="38088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124080" y="44197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44197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657600" y="45720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276720" y="45720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657600" y="36576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657600" y="39625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657600" y="41148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505320" y="40384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200400" y="44956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257800" y="54100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638680" y="5410080"/>
            <a:ext cx="381240" cy="381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334120" y="54864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410080" y="55627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791320" y="55627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486400" y="56386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257800" y="58672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638680" y="5867280"/>
            <a:ext cx="381240" cy="381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334120" y="59436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486400" y="60958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715000" y="59436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867280" y="60958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095880" y="5638680"/>
            <a:ext cx="38124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477120" y="5638680"/>
            <a:ext cx="380880" cy="381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248520" y="57913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629400" y="57913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553080" y="57150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705720" y="58672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181480" y="29718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181480" y="50292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191120" y="3733920"/>
            <a:ext cx="99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981080" y="35053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828800" y="36576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981080" y="36576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981080" y="39625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828800" y="41148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981080" y="44956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819520" y="45720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66880" y="45720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657600" y="35053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505320" y="36576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657600" y="40384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257800" y="34290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638680" y="3429000"/>
            <a:ext cx="38124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410080" y="35812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791320" y="35812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257800" y="38862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638680" y="3886200"/>
            <a:ext cx="38124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715000" y="39625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5410080" y="40384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867280" y="41148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257800" y="43434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638680" y="4343400"/>
            <a:ext cx="38124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715000" y="44197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410080" y="44956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791320" y="44956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867280" y="45720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095880" y="3429000"/>
            <a:ext cx="3812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477120" y="3429000"/>
            <a:ext cx="38088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248520" y="35812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553080" y="35053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095880" y="3886200"/>
            <a:ext cx="3812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477120" y="3886200"/>
            <a:ext cx="38088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553080" y="39625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629400" y="40384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248520" y="40384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095880" y="4343400"/>
            <a:ext cx="3812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477120" y="4343400"/>
            <a:ext cx="38088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553080" y="44956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553080" y="44197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553080" y="45720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248520" y="44956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934320" y="34290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315200" y="3429000"/>
            <a:ext cx="38088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7010280" y="35053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467480" y="35812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7162920" y="36576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934320" y="38862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315200" y="3886200"/>
            <a:ext cx="38088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010280" y="39625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391520" y="39625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7467480" y="40384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7162920" y="41148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934320" y="43434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315200" y="4343400"/>
            <a:ext cx="38088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010280" y="44197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7391520" y="44197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543800" y="44197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162920" y="45720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705720" y="41148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705720" y="44197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705720" y="45720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7543800" y="41148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772400" y="34290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8153280" y="3429000"/>
            <a:ext cx="38124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848720" y="35053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8229600" y="35053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8305920" y="35812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8001000" y="36576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772400" y="38862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8153280" y="3886200"/>
            <a:ext cx="38124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848720" y="39625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8229600" y="39625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8229600" y="41148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8001000" y="41148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7772400" y="43434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8153280" y="4343400"/>
            <a:ext cx="38124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848720" y="44197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8305920" y="44956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8001000" y="45720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8381880" y="36576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8381880" y="39625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8381880" y="41148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8229600" y="40384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924680" y="44956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705720" y="35053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553080" y="36576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705720" y="36576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705720" y="39625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553080" y="41148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705720" y="44956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7543800" y="45720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7391520" y="45720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8381880" y="35053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8229600" y="36576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8381880" y="40384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609480" y="3886200"/>
            <a:ext cx="106704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z</a:t>
            </a: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ávislosť udalost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A je nezávislá na B ak 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|B) = P(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a B s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ú nezávislé ak P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А)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(B) = P(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33520" y="5181480"/>
            <a:ext cx="1904760" cy="15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) = 1 /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B) = 1 /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 = 3 / 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B) = 3 /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57200" y="2878200"/>
            <a:ext cx="2590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= { x + y &lt; 1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= { x &lt; ½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514600" y="5181480"/>
            <a:ext cx="1905120" cy="15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) = 1 /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B) = 1 /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B)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438280" y="2878200"/>
            <a:ext cx="17528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= { x &lt; ½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= { x &gt; ½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724280" y="5181480"/>
            <a:ext cx="1905120" cy="15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) = 1 /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B) =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/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 =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1 /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B) =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1 /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648320" y="2878200"/>
            <a:ext cx="25905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y &gt; ½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= { x &lt; ½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267080" y="289548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rot="16200000">
            <a:off x="342720" y="4152240"/>
            <a:ext cx="1066680" cy="5335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590920" y="3886200"/>
            <a:ext cx="106668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800600" y="3886200"/>
            <a:ext cx="106668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rot="16200000">
            <a:off x="5067000" y="3619440"/>
            <a:ext cx="533520" cy="10666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rot="16200000">
            <a:off x="4533840" y="4152240"/>
            <a:ext cx="1066680" cy="5335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09480" y="3886200"/>
            <a:ext cx="106704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rot="16200000">
            <a:off x="2324160" y="4152600"/>
            <a:ext cx="1066680" cy="5331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rot="16200000">
            <a:off x="2857320" y="4152240"/>
            <a:ext cx="1066680" cy="5335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629400" y="5186520"/>
            <a:ext cx="1905120" cy="15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) = 1 /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B) =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/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 =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1 /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B) =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1 /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553080" y="2743200"/>
            <a:ext cx="24386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y &gt; ½ &amp; x &lt; ½ }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{ y &lt; ½ &amp; x &gt; ½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= { x &lt; ½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705720" y="3890880"/>
            <a:ext cx="1066680" cy="1067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rot="16200000">
            <a:off x="6972120" y="3624120"/>
            <a:ext cx="533520" cy="10666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rot="16200000">
            <a:off x="6438600" y="4157640"/>
            <a:ext cx="1067040" cy="5331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rot="16200000">
            <a:off x="-463320" y="39686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závisl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rot="5400000">
            <a:off x="8311680" y="43495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nezávisl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31T10:06:17Z</dcterms:created>
  <dc:creator>Andy</dc:creator>
  <dc:description/>
  <dc:language>en-US</dc:language>
  <cp:lastModifiedBy>MicroStep-MIS</cp:lastModifiedBy>
  <dcterms:modified xsi:type="dcterms:W3CDTF">2008-04-16T14:22:50Z</dcterms:modified>
  <cp:revision>64</cp:revision>
  <dc:subject/>
  <dc:title>Slide 1</dc:title>
</cp:coreProperties>
</file>